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B7B-DD49-40BB-9D51-DD7AFB84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E5B-789E-440D-AEB8-163D907C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F25-6215-44A3-870E-F8585F36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918-E0DC-47B6-AB24-C60C9D71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5D0-E43F-45A0-AD1E-C856695B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D85-676C-4D6B-9406-87EF7A15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18FC-91DC-45ED-8038-3CAAE266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3425-2752-4E2A-9BFC-6B28605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E7C-142D-47C0-A18C-67B2F4C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0F41-04F9-42FF-8045-ACDAC79C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3953-C09C-4D2E-ADFC-DD34A6C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EC6-A32F-4B07-8578-1CB029E3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BA68-7AB3-46DA-AEB4-26D9223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201F-0190-4D33-9D8F-9848EE7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0CFD-23A6-45B9-80BC-65227993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E51B-D42C-4E6A-8AA4-531881C8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4EDC-8660-4538-BC1C-185384EC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77C-986E-40C2-9429-6DE2EBEA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500-7AFE-4476-AC2B-FA58E86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A5B-6070-4EFB-8006-9BD86C3E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FA2-D048-4EE3-94C0-5FE8AC7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0BE-2017-40F5-8A72-CB97D0F0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14B-0CDF-492B-9065-E9DB880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DFE-5918-47C3-9966-CB76D0A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B1B4-863C-4557-B121-233F232FC6F1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F99-2889-4FFB-AEF4-93B6FFA85C7D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701676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Colegio Bilingüe de Palmare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TIS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Times New Roman"/>
              </a:rPr>
              <a:t>Cuestiones sociales y é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Times New Roman"/>
              </a:rPr>
              <a:t>Valor económico de la información</a:t>
            </a:r>
            <a:r>
              <a:rPr b="0" lang="es-MX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9248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5D0C-2D15-4D82-A702-EE7F97038A7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rella Córdoba Bogant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197000"/>
            <a:ext cx="78483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urante miles de años la tierra dedicada a la agricul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ejemplo: para ellos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saber con anticipación el pronóstico metereológico, la posibilidad o no de lluvias tiene valor económico pues lo llevará a hacer una mejor planificación de su activ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pués de la primera revolución industr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l conocimiento ocupa el lugar de los dos anteriores. Es la era de la información, donde lo principal es la habilidad para desarrollar y manipular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ejemplo se puede comprar o vender, en este caso por internet. Las compras en lí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481E-CD6C-435C-B978-6F5F1CE4E76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rella Córdoba Bogant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9700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ualmente dependemos mucho de las computadoras; pero para que una información  tenga valor ella deberá reunir ciertas condi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ser exac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ser información verific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estar disponible en el momento precis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estar organiza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La información deberá ser accesible cuando aquellos que deban tomar decisiones la necesit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La información debe ser útil, es decir tener un significado, para la persona que la recib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La información debe ser costo-efectiva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09E2-64DA-43BC-AF69-1E2FC4AA345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rella Córdoba Bogant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57:36Z</dcterms:created>
  <dc:creator>Estrella Córdoba Bogantes </dc:creator>
  <dc:description/>
  <dc:language>en-US</dc:language>
  <cp:lastModifiedBy>Estrella Córdoba Bogantes </cp:lastModifiedBy>
  <dcterms:modified xsi:type="dcterms:W3CDTF">2009-03-19T16:23:38Z</dcterms:modified>
  <cp:revision>10</cp:revision>
  <dc:subject/>
  <dc:title>Diapositiva 1</dc:title>
</cp:coreProperties>
</file>